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6E6F-4A83-40AF-AA83-0C95B665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7F4-557E-43BF-A45F-E46C9009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176-1CA8-4AB9-BCB6-42F3837A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44E-FD8A-4E45-814E-7D2295AF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E6A15-0C4C-4B87-9E22-3C9E8DC8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A0721-88C1-4CF9-93D6-B5986DD2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913DA-D8B3-4DCD-9B4B-1CC71868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AFA61-3556-4BB7-A032-0772AD78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953C9-5603-440D-97DA-9522F68B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821D6-A0FC-4C69-A2E2-E340EE34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6B898-69E9-4F0E-B02B-F2FE8A5E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316-BC63-4520-A1D5-884ECD3D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56FAD-7C0C-44D1-80D9-69B5620E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F2C94-43B9-4F42-9FB9-15AA64F6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E2928-4A8E-4DF1-92F1-E6234A41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15563-6E82-41C1-B3E3-69562239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E2197-94C2-47E6-AE32-CCFDB914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F734-5327-41AA-81E7-F511E806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4B471-5DC8-481A-B7E6-70A0C30E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EAF9-27BF-45A3-BFBE-A640185E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E0B7-D344-4AB7-ACB5-09D981CF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72F1F-D90A-4E2A-AA9E-1CA50118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6A5-DC03-4AFA-8060-0C2DE79C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03904-2987-4516-813F-C1F2EE2D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9D818-862F-4361-96E0-5B9929B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92140-0140-4589-80EB-1DE861E8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B526C-3E9F-4029-888F-C74ADF7B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0D3C3-2602-43F1-B9C2-A0D058D4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B51B9-C58F-4264-B301-1631A9F1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697C-0478-4108-918E-D2B19F3F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E962D-43FD-49FF-B763-1DBEC353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483A8-04F3-4C90-A110-2CF5F233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119D45-8FCB-4EA6-9A19-76E2C60A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BAE-9437-4AA4-9544-D116DADC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08E13-8EB9-4898-B930-D330DAF9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ED255-6914-432C-B47C-9737B999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45931-F1EB-4264-AC54-5364BA71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8B0AE9-353A-44E7-8FC6-2A685911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97BFC6-8310-45F3-BBC9-2F8C884C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ACD65-F2FB-46B9-8EAF-EAF23443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A0DD3-DB93-43F8-B5EA-7D327E7F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6CD04-59FC-4600-AAF3-DC33A142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69BA5-1BE9-413A-B4AE-3984C7F1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D6BD-228E-4B8B-95BA-F33011BB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33C-287E-4E88-8D02-10BD8424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E3E-4228-4E86-A442-ED83D18B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4D9-72E2-429F-834F-C5443258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C8B-11B9-4B29-972E-B9F64F1F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877E-9CF3-4A94-921F-9A594D6A8BF6}" type="slidenum"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2b2b2"/>
          </a:solidFill>
          <a:ln w="25560">
            <a:solidFill>
              <a:srgbClr val="b2b2b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6061-E87F-4270-ABEE-3446B5685C15}" type="slidenum"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05B5-1DD2-4E02-B862-A57B28F9918C}" type="slidenum"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C2E9-7BD3-4260-BEE6-C4926922C42A}" type="slidenum">
              <a:rPr b="0" lang="ru-RU" sz="16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fotki.yandex.ru/users/volynets61/view/97961/?page=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utniktravel.ru/upload/1_44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-2005-09.photosight.ru/08/1023661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7.xml"/><Relationship Id="rId9" Type="http://schemas.openxmlformats.org/officeDocument/2006/relationships/slide" Target="slide4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2" descr="0_17cf1_8d4586c6_XL.jpg"/>
          <p:cNvPicPr/>
          <p:nvPr/>
        </p:nvPicPr>
        <p:blipFill>
          <a:blip r:embed="rId1"/>
          <a:stretch/>
        </p:blipFill>
        <p:spPr>
          <a:xfrm>
            <a:off x="755640" y="2133720"/>
            <a:ext cx="2900520" cy="33573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4" descr="H2SO4.gif"/>
          <p:cNvPicPr/>
          <p:nvPr/>
        </p:nvPicPr>
        <p:blipFill>
          <a:blip r:embed="rId2"/>
          <a:stretch/>
        </p:blipFill>
        <p:spPr>
          <a:xfrm>
            <a:off x="4211640" y="2708280"/>
            <a:ext cx="4137120" cy="341316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6" descr=""/>
          <p:cNvPicPr/>
          <p:nvPr/>
        </p:nvPicPr>
        <p:blipFill>
          <a:blip r:embed="rId3"/>
          <a:stretch/>
        </p:blipFill>
        <p:spPr>
          <a:xfrm>
            <a:off x="536400" y="407880"/>
            <a:ext cx="76266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3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4"/>
          <p:cNvSpPr/>
          <p:nvPr/>
        </p:nvSpPr>
        <p:spPr>
          <a:xfrm>
            <a:off x="1921320" y="119700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Сульфат кальц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2357280" y="2357280"/>
            <a:ext cx="3857760" cy="3857760"/>
          </a:xfrm>
          <a:prstGeom prst="rect">
            <a:avLst/>
          </a:prstGeom>
          <a:ln w="0">
            <a:noFill/>
          </a:ln>
        </p:spPr>
      </p:pic>
      <p:sp>
        <p:nvSpPr>
          <p:cNvPr id="231" name="TextBox 8"/>
          <p:cNvSpPr/>
          <p:nvPr/>
        </p:nvSpPr>
        <p:spPr>
          <a:xfrm>
            <a:off x="2140560" y="1197000"/>
            <a:ext cx="49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Calibri"/>
              </a:rPr>
              <a:t>Сульфат бар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1928880" y="2500200"/>
            <a:ext cx="4881600" cy="36608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3"/>
          <p:cNvSpPr/>
          <p:nvPr/>
        </p:nvSpPr>
        <p:spPr>
          <a:xfrm>
            <a:off x="611280" y="333360"/>
            <a:ext cx="83534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В Мексике не так давно обнаружили пещер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с 15-метровыми кристаллами гипс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BZ" sz="2800" spc="-1" strike="noStrike">
                <a:solidFill>
                  <a:srgbClr val="ffffff"/>
                </a:solidFill>
                <a:latin typeface="Calibri"/>
              </a:rPr>
              <a:t>      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i="1" lang="en-BZ" sz="3600" spc="-1" strike="noStrike">
                <a:solidFill>
                  <a:srgbClr val="ffffff"/>
                </a:solidFill>
                <a:latin typeface="Calibri"/>
              </a:rPr>
              <a:t>CaSO</a:t>
            </a:r>
            <a:r>
              <a:rPr b="1" i="1" lang="en-BZ" sz="20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i="1" lang="en-BZ" sz="3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3"/>
          <a:stretch/>
        </p:blipFill>
        <p:spPr>
          <a:xfrm>
            <a:off x="1547640" y="2133720"/>
            <a:ext cx="6004080" cy="4235400"/>
          </a:xfrm>
          <a:prstGeom prst="rect">
            <a:avLst/>
          </a:prstGeom>
          <a:ln w="0">
            <a:noFill/>
          </a:ln>
        </p:spPr>
      </p:pic>
      <p:sp>
        <p:nvSpPr>
          <p:cNvPr id="235" name="Управляющая кнопка: домой 10">
            <a:hlinkClick r:id="rId4" action="ppaction://hlinksldjump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3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3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3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3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3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8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3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4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1904400" y="357120"/>
            <a:ext cx="4688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Применение 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i="1" lang="en-US" sz="44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i="1" lang="en-US" sz="44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214200" y="1214280"/>
            <a:ext cx="846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1. В производстве минеральных удобр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2. Как электролит в свинцовых аккумулятор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3. Для получения различных минеральных кислот и со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4. В нефтяной, металлообрабатывающей, текстильной, кожевенной и др. отраслях промышл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5. В пищевой промышленност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(пищевая добавка Е51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Рисунок 7" descr="Применение серной кислоты в промышленности..gif"/>
          <p:cNvPicPr/>
          <p:nvPr/>
        </p:nvPicPr>
        <p:blipFill>
          <a:blip r:embed="rId1"/>
          <a:stretch/>
        </p:blipFill>
        <p:spPr>
          <a:xfrm>
            <a:off x="4572000" y="2857680"/>
            <a:ext cx="4248000" cy="3287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4151160" cy="3166920"/>
          </a:xfrm>
          <a:prstGeom prst="rect">
            <a:avLst/>
          </a:prstGeom>
          <a:ln w="0">
            <a:noFill/>
          </a:ln>
        </p:spPr>
      </p:pic>
      <p:sp>
        <p:nvSpPr>
          <p:cNvPr id="240" name="Управляющая кнопка: домой 8">
            <a:hlinkClick r:id="rId3" action="ppaction://hlinksldjump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7,-77,-1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7,-77,-1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4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640"/>
                            </p:stCondLst>
                            <p:childTnLst>
                              <p:par>
                                <p:cTn id="4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140"/>
                            </p:stCondLst>
                            <p:childTnLst>
                              <p:par>
                                <p:cTn id="4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Управляющая кнопка: домой 5">
            <a:hlinkClick r:id="rId1" action="ppaction://hlinksldjump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27240" y="1484280"/>
            <a:ext cx="46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Серная кислот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в природ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2787840" y="3933720"/>
            <a:ext cx="381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alibri"/>
              </a:rPr>
              <a:t>Кислые озё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http://img-fotki.yandex.ru/get/55/volynets61.2/0_10f36_daea5235_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60280"/>
            <a:ext cx="5960880" cy="337968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250920" y="3284640"/>
            <a:ext cx="85010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Существуют предположения, что кислотное озеро возникло сравнительно недавно в результате извержения, произошедшего незаметно для люд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Тот, кто сумел достичь его подножия, просто обязан подняться на кромку кратер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Зрелище, которое открывается глазам, незабываемо: двухсотметровый провал кратера, дымящееся зеленое озеро, буйство красок на внутренних стен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В ясную ветреную погоду можно спуститься в крате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Это обитель «подземных духов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6643800" y="85716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Это одно из чудес камчатской прир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45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Картинка 1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60280"/>
            <a:ext cx="8136000" cy="63612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2124000" y="3789360"/>
            <a:ext cx="4969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Озеро шириной 500 м и глуби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140 м состоит из прогретого до 40 градусов раствора серной и соляной кислот средней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концентрации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1"/>
          <p:cNvSpPr/>
          <p:nvPr/>
        </p:nvSpPr>
        <p:spPr>
          <a:xfrm>
            <a:off x="571680" y="571680"/>
            <a:ext cx="778644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800" spc="-1" strike="noStrike">
                <a:solidFill>
                  <a:srgbClr val="dddddd"/>
                </a:solidFill>
                <a:latin typeface="Calibri"/>
              </a:rPr>
              <a:t>На острове Кунашир (Курильские острова) есть молочно-белое озеро ещё более интенсивной окра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ddddd"/>
                </a:solidFill>
                <a:latin typeface="Calibri"/>
              </a:rPr>
              <a:t>Озеро это кипяще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ddddd"/>
                </a:solidFill>
                <a:latin typeface="Calibri"/>
              </a:rPr>
              <a:t>Установлено, что оно заполнено концентрированным раствором серной и соляной кислот – </a:t>
            </a: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i="1" lang="en-US" sz="36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i="1" lang="ru-RU" sz="2800" spc="-1" strike="noStrike">
                <a:solidFill>
                  <a:srgbClr val="dddddd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dddddd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dddddd"/>
                </a:solidFill>
                <a:latin typeface="Calibri"/>
              </a:rPr>
              <a:t> и </a:t>
            </a:r>
            <a:r>
              <a:rPr b="1" i="1" lang="en-US" sz="3600" spc="-1" strike="noStrike">
                <a:solidFill>
                  <a:srgbClr val="ffffff"/>
                </a:solidFill>
                <a:latin typeface="Calibri"/>
              </a:rPr>
              <a:t>HCl</a:t>
            </a:r>
            <a:r>
              <a:rPr b="1" i="1" lang="ru-RU" sz="3600" spc="-1" strike="noStrike">
                <a:solidFill>
                  <a:srgbClr val="dddddd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dddddd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dddddd"/>
                </a:solidFill>
                <a:latin typeface="Calibri"/>
              </a:rPr>
              <a:t>Со дна его всё время поднимаются горячие вулканические газы, которые подогревают воду до кипения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Картинка 1 из 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0360" y="1341360"/>
            <a:ext cx="4578120" cy="46548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2"/>
          <p:cNvSpPr/>
          <p:nvPr/>
        </p:nvSpPr>
        <p:spPr>
          <a:xfrm rot="18370200">
            <a:off x="-850680" y="193788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Вулкан-оз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на острове Кунаши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4"/>
          <p:cNvSpPr/>
          <p:nvPr/>
        </p:nvSpPr>
        <p:spPr>
          <a:xfrm>
            <a:off x="1095120" y="1700280"/>
            <a:ext cx="6726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Серная кислота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чень активная жидкость, особен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концентрированна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которая реагирует с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многими  неорганическими вещества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также она легко действует 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рганические соединени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обугливает бумаг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сахар, древесину, т.е. соедин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которые содержат в себе угле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Управляющая кнопка: домой 5">
            <a:hlinkClick r:id="rId1" action="ppaction://hlinksldjump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2782800" y="476280"/>
            <a:ext cx="314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Calibri"/>
              </a:rPr>
              <a:t>ВЫВОД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3"/>
          <p:cNvSpPr/>
          <p:nvPr/>
        </p:nvSpPr>
        <p:spPr>
          <a:xfrm>
            <a:off x="428760" y="428760"/>
            <a:ext cx="457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Нет кислоты, которая была бы нужнее и применялась бы чаще, чем серна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Главным образом ее применяют в качестве полуфабриката; многочисленные предприятия по производству серной кислоты перерабатывают ее далее в различных процессах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4"/>
          <p:cNvSpPr/>
          <p:nvPr/>
        </p:nvSpPr>
        <p:spPr>
          <a:xfrm>
            <a:off x="3780000" y="386064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Не случайно перспективные планы развития химической промышленности каждой страны предусматривают увеличение производства серной кислоты и числа требующихся для этого многочисленных установок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Картинка 9 из 8715"/>
          <p:cNvPicPr/>
          <p:nvPr/>
        </p:nvPicPr>
        <p:blipFill>
          <a:blip r:embed="rId1"/>
          <a:stretch/>
        </p:blipFill>
        <p:spPr>
          <a:xfrm>
            <a:off x="611280" y="3933720"/>
            <a:ext cx="2479680" cy="2381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Картинка 9 из 8715"/>
          <p:cNvPicPr/>
          <p:nvPr/>
        </p:nvPicPr>
        <p:blipFill>
          <a:blip r:embed="rId2"/>
          <a:stretch/>
        </p:blipFill>
        <p:spPr>
          <a:xfrm>
            <a:off x="5796000" y="692280"/>
            <a:ext cx="2479680" cy="2381040"/>
          </a:xfrm>
          <a:prstGeom prst="rect">
            <a:avLst/>
          </a:prstGeom>
          <a:ln w="0">
            <a:noFill/>
          </a:ln>
        </p:spPr>
      </p:pic>
      <p:sp>
        <p:nvSpPr>
          <p:cNvPr id="260" name="Управляющая кнопка: домой 9"/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Box 3"/>
          <p:cNvSpPr/>
          <p:nvPr/>
        </p:nvSpPr>
        <p:spPr>
          <a:xfrm>
            <a:off x="395280" y="260280"/>
            <a:ext cx="8175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8f8f8"/>
                </a:solidFill>
                <a:uFillTx/>
                <a:latin typeface="Calibri"/>
              </a:rPr>
              <a:t>АВТОР РАБОТЫ</a:t>
            </a:r>
            <a:r>
              <a:rPr b="1" i="1" lang="ru-RU" sz="2800" spc="-1" strike="noStrike">
                <a:solidFill>
                  <a:srgbClr val="f8f8f8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f8f8f8"/>
                </a:solidFill>
                <a:latin typeface="Calibri"/>
              </a:rPr>
              <a:t>ученица 11а класса ГБОУ школы № 880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Мустафаева Диа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РУКОВОДИТЕЛЬ</a:t>
            </a: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учитель  химии ГБОУ школы № 880 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Гершановская Евгения Владими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2" descr="Картинка 9 из 8715"/>
          <p:cNvPicPr/>
          <p:nvPr/>
        </p:nvPicPr>
        <p:blipFill>
          <a:blip r:embed="rId1"/>
          <a:stretch/>
        </p:blipFill>
        <p:spPr>
          <a:xfrm>
            <a:off x="324000" y="3573360"/>
            <a:ext cx="3528720" cy="28749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Картинка 14 из 8715"/>
          <p:cNvPicPr/>
          <p:nvPr/>
        </p:nvPicPr>
        <p:blipFill>
          <a:blip r:embed="rId2"/>
          <a:stretch/>
        </p:blipFill>
        <p:spPr>
          <a:xfrm>
            <a:off x="4140360" y="2997360"/>
            <a:ext cx="4356000" cy="3090600"/>
          </a:xfrm>
          <a:prstGeom prst="rect">
            <a:avLst/>
          </a:prstGeom>
          <a:ln w="0">
            <a:noFill/>
          </a:ln>
        </p:spPr>
      </p:pic>
      <p:sp>
        <p:nvSpPr>
          <p:cNvPr id="264" name="Управляющая кнопка: домой 7"/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0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4"/>
          <p:cNvSpPr/>
          <p:nvPr/>
        </p:nvSpPr>
        <p:spPr>
          <a:xfrm>
            <a:off x="777600" y="285840"/>
            <a:ext cx="655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1" action="ppaction://hlinksldjump"/>
              </a:rPr>
              <a:t>Характеристика кислот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57120" y="2143080"/>
            <a:ext cx="364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2" action="ppaction://hlinksldjump"/>
              </a:rPr>
              <a:t>Получ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1977480" y="2928960"/>
            <a:ext cx="574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3" action="ppaction://hlinksldjump"/>
              </a:rPr>
              <a:t>Химические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4" action="ppaction://hlinksldjump"/>
              </a:rPr>
              <a:t> 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5" action="ppaction://hlinksldjump"/>
              </a:rPr>
              <a:t>свойст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698400" y="3573360"/>
            <a:ext cx="146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6" action="ppaction://hlinksldjump"/>
              </a:rPr>
              <a:t>Сол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1913400" y="4357800"/>
            <a:ext cx="35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7" action="ppaction://hlinksldjump"/>
              </a:rPr>
              <a:t>Примен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2015640" y="5877000"/>
            <a:ext cx="210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8" action="ppaction://hlinksldjump"/>
              </a:rPr>
              <a:t>ВЫВО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785880" y="1214280"/>
            <a:ext cx="788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9" action="ppaction://hlinksldjump"/>
              </a:rPr>
              <a:t>Физические свойств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635760" y="5143680"/>
            <a:ext cx="70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10" action="ppaction://hlinksldjump"/>
              </a:rPr>
              <a:t>Серная 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11" action="ppaction://hlinksldjump"/>
              </a:rPr>
              <a:t>кислота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Calibri"/>
                <a:hlinkClick r:id="rId12" action="ppaction://hlinksldjump"/>
              </a:rPr>
              <a:t> в природ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971640" y="1844640"/>
            <a:ext cx="698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Calibri"/>
              </a:rPr>
              <a:t>С О Д Е Р Ж А Н И 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xit" presetID="7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5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with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with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with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468360" y="620640"/>
            <a:ext cx="8207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сылки на источн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ffffff"/>
                </a:solidFill>
                <a:latin typeface="Calibri"/>
              </a:rPr>
              <a:t>http://www.sigmatec.ru/main/prod/sernaya_kislota/n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Учебник для общеобразовательных учреждений – 9 класс, О.С.Габриеля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3.  Википедия (электронная энциклопед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"/>
          <p:cNvSpPr/>
          <p:nvPr/>
        </p:nvSpPr>
        <p:spPr>
          <a:xfrm>
            <a:off x="231840" y="2421000"/>
            <a:ext cx="546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о основности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: двухосно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о наличию кислорода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кислородосодержащ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о силе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сильный электрол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Это тяжёлая жидкость, которая в любом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соотношении смешивается с водой, имеет молекулярную решётку и ковалентную полярную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5" descr="93742_380.jpg"/>
          <p:cNvPicPr/>
          <p:nvPr/>
        </p:nvPicPr>
        <p:blipFill>
          <a:blip r:embed="rId1"/>
          <a:stretch/>
        </p:blipFill>
        <p:spPr>
          <a:xfrm>
            <a:off x="5651640" y="2565360"/>
            <a:ext cx="2952720" cy="2519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img016"/>
          <p:cNvPicPr/>
          <p:nvPr/>
        </p:nvPicPr>
        <p:blipFill>
          <a:blip r:embed="rId2"/>
          <a:stretch/>
        </p:blipFill>
        <p:spPr>
          <a:xfrm>
            <a:off x="7667640" y="404640"/>
            <a:ext cx="1081080" cy="936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img016"/>
          <p:cNvPicPr/>
          <p:nvPr/>
        </p:nvPicPr>
        <p:blipFill>
          <a:blip r:embed="rId3"/>
          <a:stretch/>
        </p:blipFill>
        <p:spPr>
          <a:xfrm>
            <a:off x="250920" y="33336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"/>
          <p:cNvSpPr/>
          <p:nvPr/>
        </p:nvSpPr>
        <p:spPr>
          <a:xfrm>
            <a:off x="2888640" y="220680"/>
            <a:ext cx="23126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Calibri"/>
                <a:ea typeface="Arial Unicode MS"/>
              </a:rPr>
              <a:t>H</a:t>
            </a:r>
            <a:r>
              <a:rPr b="0" lang="ru-RU" sz="7200" spc="-1" strike="noStrike" baseline="-25000">
                <a:solidFill>
                  <a:srgbClr val="ffffff"/>
                </a:solidFill>
                <a:latin typeface="Calibri"/>
                <a:ea typeface="Arial Unicode MS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Arial Unicode MS"/>
              </a:rPr>
              <a:t>SO</a:t>
            </a:r>
            <a:r>
              <a:rPr b="0" lang="en-US" sz="7200" spc="-1" strike="noStrike" baseline="-25000">
                <a:solidFill>
                  <a:srgbClr val="ffffff"/>
                </a:solidFill>
                <a:latin typeface="Calibri"/>
                <a:ea typeface="Arial Unicode MS"/>
              </a:rPr>
              <a:t>4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1752480" y="1484280"/>
            <a:ext cx="467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Характеристик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Управляющая кнопка: домой 8">
            <a:hlinkClick r:id="rId4" action="ppaction://hlinksldjump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24000" y="907920"/>
            <a:ext cx="84960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 Narrow"/>
              </a:rPr>
              <a:t>Агрегатное состояние –  жидкость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 Narrow"/>
              </a:rPr>
              <a:t>Тяжелая маслянистая жидкость ("купоросное масло"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 Narrow"/>
              </a:rPr>
              <a:t>Плотность - </a:t>
            </a:r>
            <a:r>
              <a:rPr b="1" i="1" lang="en-US" sz="2800" spc="-1" strike="noStrike">
                <a:solidFill>
                  <a:srgbClr val="f8f8f8"/>
                </a:solidFill>
                <a:latin typeface="Arial Narrow"/>
              </a:rPr>
              <a:t>r </a:t>
            </a:r>
            <a:r>
              <a:rPr b="1" i="1" lang="ru-RU" sz="2800" spc="-1" strike="noStrike">
                <a:solidFill>
                  <a:srgbClr val="f8f8f8"/>
                </a:solidFill>
                <a:latin typeface="Arial Narrow"/>
              </a:rPr>
              <a:t>= 1,84 г/см</a:t>
            </a:r>
            <a:r>
              <a:rPr b="1" i="1" lang="ru-RU" sz="2800" spc="-1" strike="noStrike" baseline="30000">
                <a:solidFill>
                  <a:srgbClr val="f8f8f8"/>
                </a:solidFill>
                <a:latin typeface="Arial Narrow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 Narrow"/>
              </a:rPr>
              <a:t>    </a:t>
            </a:r>
            <a:r>
              <a:rPr b="1" i="1" lang="ru-RU" sz="2800" spc="-1" strike="noStrike">
                <a:solidFill>
                  <a:srgbClr val="f8f8f8"/>
                </a:solidFill>
                <a:latin typeface="Arial Narrow"/>
              </a:rPr>
              <a:t>Нелетучая, хорошо растворима в воде – с сильным нагревом ( бывает разбавленная и концентрированная кислота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 Narrow"/>
              </a:rPr>
              <a:t> </a:t>
            </a:r>
            <a:r>
              <a:rPr b="1" i="1" lang="en-US" sz="2800" spc="-1" strike="noStrike">
                <a:solidFill>
                  <a:srgbClr val="f8f8f8"/>
                </a:solidFill>
                <a:latin typeface="Arial Narrow"/>
              </a:rPr>
              <a:t>t°</a:t>
            </a:r>
            <a:r>
              <a:rPr b="1" i="1" lang="ru-RU" sz="2800" spc="-1" strike="noStrike">
                <a:solidFill>
                  <a:srgbClr val="f8f8f8"/>
                </a:solidFill>
                <a:latin typeface="Arial Narrow"/>
              </a:rPr>
              <a:t>кип. = 296</a:t>
            </a:r>
            <a:r>
              <a:rPr b="1" i="1" lang="en-US" sz="2800" spc="-1" strike="noStrike">
                <a:solidFill>
                  <a:srgbClr val="f8f8f8"/>
                </a:solidFill>
                <a:latin typeface="Arial Narrow"/>
              </a:rPr>
              <a:t>°</a:t>
            </a:r>
            <a:r>
              <a:rPr b="1" i="1" lang="ru-RU" sz="2800" spc="-1" strike="noStrike">
                <a:solidFill>
                  <a:srgbClr val="f8f8f8"/>
                </a:solidFill>
                <a:latin typeface="Arial Narrow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67120" indent="-267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0" name="Rectangle 2" descr=""/>
          <p:cNvPicPr/>
          <p:nvPr/>
        </p:nvPicPr>
        <p:blipFill>
          <a:blip r:embed="rId1"/>
          <a:stretch/>
        </p:blipFill>
        <p:spPr>
          <a:xfrm>
            <a:off x="1341360" y="92160"/>
            <a:ext cx="6443640" cy="968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img017"/>
          <p:cNvPicPr/>
          <p:nvPr/>
        </p:nvPicPr>
        <p:blipFill>
          <a:blip r:embed="rId2"/>
          <a:stretch/>
        </p:blipFill>
        <p:spPr>
          <a:xfrm>
            <a:off x="468360" y="4508640"/>
            <a:ext cx="5054400" cy="1854000"/>
          </a:xfrm>
          <a:prstGeom prst="rect">
            <a:avLst/>
          </a:prstGeom>
          <a:ln w="0">
            <a:noFill/>
          </a:ln>
        </p:spPr>
      </p:pic>
      <p:sp>
        <p:nvSpPr>
          <p:cNvPr id="192" name="Line 5"/>
          <p:cNvSpPr/>
          <p:nvPr/>
        </p:nvSpPr>
        <p:spPr>
          <a:xfrm flipH="1">
            <a:off x="5003280" y="5084640"/>
            <a:ext cx="1008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087600" y="4508640"/>
            <a:ext cx="285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 Narrow"/>
              </a:rPr>
              <a:t>Прави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 Narrow"/>
              </a:rPr>
              <a:t>разб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 Narrow"/>
              </a:rPr>
              <a:t>концентрирован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8f8f8"/>
                </a:solidFill>
                <a:latin typeface="Arial Narrow"/>
              </a:rPr>
              <a:t>кисл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Управляющая кнопка: домой 8">
            <a:hlinkClick r:id="rId3" action="ppaction://hlinksldjump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85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85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85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850"/>
                            </p:stCondLst>
                            <p:childTnLst>
                              <p:par>
                                <p:cTn id="1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85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85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85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85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979640" y="2781360"/>
          <a:ext cx="5289480" cy="4297320"/>
        </p:xfrm>
        <a:graphic>
          <a:graphicData uri="http://schemas.openxmlformats.org/drawingml/2006/table">
            <a:tbl>
              <a:tblPr/>
              <a:tblGrid>
                <a:gridCol w="5289480"/>
              </a:tblGrid>
              <a:tr h="4297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Что при растворении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С веществом случается?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Разогрев произойдет,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Если кто-то вдруг нальет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В воду серной кислоты.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Но не вздумай только ты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Наливать наоборот –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Брызгать кислота начнет. 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Объяснения просты: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Как для серной кислоты,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Так и для других кислот:</a:t>
                      </a:r>
                      <a:br>
                        <a:rPr sz="2000"/>
                      </a:br>
                      <a:r>
                        <a:rPr b="1" i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Здесь реакция пойдет.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16"/>
          <p:cNvSpPr/>
          <p:nvPr/>
        </p:nvSpPr>
        <p:spPr>
          <a:xfrm>
            <a:off x="611280" y="282600"/>
            <a:ext cx="8064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Все, что по серной кислоте узнал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Запомни – это важн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Чтоб пользоваться 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8f8f8"/>
                </a:solidFill>
                <a:latin typeface="Arial"/>
              </a:rPr>
              <a:t>Было бы тебе не страшно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713880" y="2071800"/>
            <a:ext cx="765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сли вдруг захочешь кислоту ты раствори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адо правило важное повтори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3" descr="img016"/>
          <p:cNvPicPr/>
          <p:nvPr/>
        </p:nvPicPr>
        <p:blipFill>
          <a:blip r:embed="rId1"/>
          <a:stretch/>
        </p:blipFill>
        <p:spPr>
          <a:xfrm>
            <a:off x="7215120" y="3929040"/>
            <a:ext cx="1081080" cy="93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img016"/>
          <p:cNvPicPr/>
          <p:nvPr/>
        </p:nvPicPr>
        <p:blipFill>
          <a:blip r:embed="rId2"/>
          <a:stretch/>
        </p:blipFill>
        <p:spPr>
          <a:xfrm>
            <a:off x="652320" y="393372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200" name="Управляющая кнопка: домой 8">
            <a:hlinkClick r:id="rId3" action="ppaction://hlinksldjump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650"/>
                            </p:stCondLst>
                            <p:childTnLst>
                              <p:par>
                                <p:cTn id="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3"/>
          <p:cNvSpPr/>
          <p:nvPr/>
        </p:nvSpPr>
        <p:spPr>
          <a:xfrm>
            <a:off x="468360" y="357120"/>
            <a:ext cx="784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Промышленное получение </a:t>
            </a: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i="1" lang="ru-RU" sz="4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i="1" lang="en-US" sz="40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Рисунок 8" descr="...в процессе производства серной кислоты..jpg"/>
          <p:cNvPicPr/>
          <p:nvPr/>
        </p:nvPicPr>
        <p:blipFill>
          <a:blip r:embed="rId1"/>
          <a:stretch/>
        </p:blipFill>
        <p:spPr>
          <a:xfrm>
            <a:off x="214200" y="1857240"/>
            <a:ext cx="3524400" cy="2643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"/>
          <p:cNvPicPr/>
          <p:nvPr/>
        </p:nvPicPr>
        <p:blipFill>
          <a:blip r:embed="rId2"/>
          <a:stretch/>
        </p:blipFill>
        <p:spPr>
          <a:xfrm>
            <a:off x="5072040" y="1785960"/>
            <a:ext cx="3567240" cy="2643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3"/>
          <a:stretch/>
        </p:blipFill>
        <p:spPr>
          <a:xfrm>
            <a:off x="2143080" y="1285920"/>
            <a:ext cx="3967200" cy="5113440"/>
          </a:xfrm>
          <a:prstGeom prst="rect">
            <a:avLst/>
          </a:prstGeom>
          <a:ln w="0">
            <a:noFill/>
          </a:ln>
        </p:spPr>
      </p:pic>
      <p:cxnSp>
        <p:nvCxnSpPr>
          <p:cNvPr id="205" name="Прямая со стрелкой 12"/>
          <p:cNvCxnSpPr/>
          <p:nvPr/>
        </p:nvCxnSpPr>
        <p:spPr>
          <a:xfrm>
            <a:off x="1642680" y="1999800"/>
            <a:ext cx="50076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06" name="TextBox 13"/>
          <p:cNvSpPr/>
          <p:nvPr/>
        </p:nvSpPr>
        <p:spPr>
          <a:xfrm>
            <a:off x="905040" y="1598760"/>
            <a:ext cx="7235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rush Script MT"/>
              </a:rPr>
              <a:t>S     SO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Brush Script MT"/>
              </a:rPr>
              <a:t>2   </a:t>
            </a:r>
            <a:r>
              <a:rPr b="1" lang="en-US" sz="4800" spc="-1" strike="noStrike">
                <a:solidFill>
                  <a:srgbClr val="ffffff"/>
                </a:solidFill>
                <a:latin typeface="Brush Script MT"/>
              </a:rPr>
              <a:t>     SO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Brush Script MT"/>
              </a:rPr>
              <a:t>3   </a:t>
            </a:r>
            <a:r>
              <a:rPr b="1" lang="en-US" sz="4800" spc="-1" strike="noStrike">
                <a:solidFill>
                  <a:srgbClr val="ffffff"/>
                </a:solidFill>
                <a:latin typeface="Brush Script MT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Brush Script MT"/>
              </a:rPr>
              <a:t>H</a:t>
            </a:r>
            <a:r>
              <a:rPr b="1" lang="ru-RU" sz="4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lang="en-US" sz="4800" spc="-1" strike="noStrike">
                <a:solidFill>
                  <a:srgbClr val="ffffff"/>
                </a:solidFill>
                <a:latin typeface="Brush Script MT"/>
              </a:rPr>
              <a:t>SO</a:t>
            </a:r>
            <a:r>
              <a:rPr b="1" lang="en-US" sz="4800" spc="-1" strike="noStrike" baseline="-25000">
                <a:solidFill>
                  <a:srgbClr val="ffffff"/>
                </a:solidFill>
                <a:latin typeface="Brush Script MT"/>
              </a:rPr>
              <a:t>4</a:t>
            </a:r>
            <a:r>
              <a:rPr b="1" lang="ru-RU" sz="4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7" name="Прямая со стрелкой 14"/>
          <p:cNvCxnSpPr/>
          <p:nvPr/>
        </p:nvCxnSpPr>
        <p:spPr>
          <a:xfrm>
            <a:off x="3714480" y="1999800"/>
            <a:ext cx="50076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8" name="Прямая со стрелкой 15"/>
          <p:cNvCxnSpPr/>
          <p:nvPr/>
        </p:nvCxnSpPr>
        <p:spPr>
          <a:xfrm>
            <a:off x="5651280" y="1988640"/>
            <a:ext cx="500760" cy="25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09" name="TextBox 11"/>
          <p:cNvSpPr/>
          <p:nvPr/>
        </p:nvSpPr>
        <p:spPr>
          <a:xfrm>
            <a:off x="1643040" y="3214800"/>
            <a:ext cx="5143680" cy="33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S+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Brush Script MT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=S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Brush Script MT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rush Script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2S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Brush Script MT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+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Brush Script MT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=2S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Brush Script MT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Brush Script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S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Brush Script MT"/>
              </a:rPr>
              <a:t>3</a:t>
            </a: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+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Brush Script MT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O=H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Brush Script MT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Brush Script MT"/>
              </a:rPr>
              <a:t>SO</a:t>
            </a:r>
            <a:r>
              <a:rPr b="0" lang="en-US" sz="4800" spc="-1" strike="noStrike" baseline="-25000">
                <a:solidFill>
                  <a:srgbClr val="ffffff"/>
                </a:solidFill>
                <a:latin typeface="Brush Script MT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Управляющая кнопка: домой 17">
            <a:hlinkClick r:id="rId4" action="ppaction://hlinksldjump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1155600" y="333360"/>
            <a:ext cx="70246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Химические свойства 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i="1" lang="ru-RU" sz="44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i="1" lang="en-US" sz="44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900000" y="1341360"/>
            <a:ext cx="771552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 металлами (в ряду  активности металлов до водорода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S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+Zn=ZnS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 + 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 оксидами металлов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S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+K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O=K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S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+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 гидроксидами металл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S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+2NaOH=Na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S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+</a:t>
            </a:r>
            <a:r>
              <a:rPr b="1" lang="ru-RU" sz="3200" spc="-1" strike="noStrike">
                <a:solidFill>
                  <a:srgbClr val="f8f8f8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 соля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S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+MgC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3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=MgS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+H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r>
              <a:rPr b="1" lang="en-US" sz="3200" spc="-1" strike="noStrike">
                <a:solidFill>
                  <a:srgbClr val="f8f8f8"/>
                </a:solidFill>
                <a:latin typeface="Lucida Sans Unicode"/>
              </a:rPr>
              <a:t>O+CO</a:t>
            </a:r>
            <a:r>
              <a:rPr b="1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Управляющая кнопка: домой 6">
            <a:hlinkClick r:id="rId1" action="ppaction://hlinksldjump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4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3"/>
          <p:cNvSpPr/>
          <p:nvPr/>
        </p:nvSpPr>
        <p:spPr>
          <a:xfrm>
            <a:off x="539640" y="404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ОСОБЫЕ СВОЙСТВА КОНЦЕНТРИРОВАННОЙ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СЕРНОЙ КИСЛОТЫ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alibri"/>
              </a:rPr>
              <a:t>ВЗАИМОДЕЙСТВИЕ С МЕТАЛ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95280" y="4677120"/>
            <a:ext cx="8497800" cy="1008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 взаимодействии концентрированной серной кислоты с  металлами до водорода возможно образование газа-сероводорода или с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395280" y="1700280"/>
            <a:ext cx="856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онцентрированная  серная кислота при нагревании может взаимодействовать с металлами, расположенными в ряду напряжений металлов правее водор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 этом продуктом реакции является сернистый га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6"/>
          <p:cNvSpPr/>
          <p:nvPr/>
        </p:nvSpPr>
        <p:spPr>
          <a:xfrm>
            <a:off x="324000" y="3789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этой реакции серная кислота проявляет окислительные свойства, так как сера понижает свою степень окис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611280" y="31417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800" spc="-1" strike="noStrike">
                <a:solidFill>
                  <a:srgbClr val="ffffff"/>
                </a:solidFill>
                <a:latin typeface="Calibri"/>
              </a:rPr>
              <a:t>Cu + H</a:t>
            </a:r>
            <a:r>
              <a:rPr b="1" lang="en-BZ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BZ" sz="28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BZ" sz="1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BZ" sz="2800" spc="-1" strike="noStrike">
                <a:solidFill>
                  <a:srgbClr val="ffffff"/>
                </a:solidFill>
                <a:latin typeface="Calibri"/>
              </a:rPr>
              <a:t> ----CuSO</a:t>
            </a:r>
            <a:r>
              <a:rPr b="1" lang="en-BZ" sz="1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BZ" sz="2800" spc="-1" strike="noStrike">
                <a:solidFill>
                  <a:srgbClr val="ffffff"/>
                </a:solidFill>
                <a:latin typeface="Calibri"/>
              </a:rPr>
              <a:t> + SO</a:t>
            </a:r>
            <a:r>
              <a:rPr b="1" lang="en-BZ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BZ" sz="2800" spc="-1" strike="noStrike">
                <a:solidFill>
                  <a:srgbClr val="ffffff"/>
                </a:solidFill>
                <a:latin typeface="Calibri"/>
              </a:rPr>
              <a:t> + H</a:t>
            </a:r>
            <a:r>
              <a:rPr b="1" lang="en-BZ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BZ" sz="28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710280" y="5661000"/>
            <a:ext cx="44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2800" spc="-1" strike="noStrike">
                <a:solidFill>
                  <a:srgbClr val="ffffff"/>
                </a:solidFill>
                <a:latin typeface="Calibri"/>
              </a:rPr>
              <a:t>Zn + H</a:t>
            </a:r>
            <a:r>
              <a:rPr b="1" lang="en-BZ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BZ" sz="28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lang="en-BZ" sz="1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BZ" sz="2800" spc="-1" strike="noStrike">
                <a:solidFill>
                  <a:srgbClr val="ffffff"/>
                </a:solidFill>
                <a:latin typeface="Calibri"/>
              </a:rPr>
              <a:t> ---ZnSO</a:t>
            </a:r>
            <a:r>
              <a:rPr b="1" lang="en-BZ" sz="1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en-BZ" sz="2800" spc="-1" strike="noStrike">
                <a:solidFill>
                  <a:srgbClr val="ffffff"/>
                </a:solidFill>
                <a:latin typeface="Calibri"/>
              </a:rPr>
              <a:t> + S + H</a:t>
            </a:r>
            <a:r>
              <a:rPr b="1" lang="en-BZ" sz="1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en-BZ" sz="2800" spc="-1" strike="noStrike">
                <a:solidFill>
                  <a:srgbClr val="ffffff"/>
                </a:solidFill>
                <a:latin typeface="Calibri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317520" y="804960"/>
            <a:ext cx="27986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Соли 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1" i="1" lang="en-US" sz="44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1" i="1" lang="en-US" sz="44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4"/>
          <p:cNvSpPr/>
          <p:nvPr/>
        </p:nvSpPr>
        <p:spPr>
          <a:xfrm>
            <a:off x="4284720" y="1341360"/>
            <a:ext cx="46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Lucida Sans Unicode"/>
              </a:rPr>
              <a:t>Они могут быть как растворимыми, так и нерастворим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1434240" y="2133720"/>
            <a:ext cx="71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Химические свойства сульфатов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611280" y="2924280"/>
            <a:ext cx="8172360" cy="37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С металлами (прибавляемый металл должен быть активнее металла в соли)</a:t>
            </a:r>
            <a:r>
              <a:rPr b="0" i="1" lang="ru-RU" sz="3200" spc="-1" strike="noStrike">
                <a:solidFill>
                  <a:srgbClr val="ffffff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Lucida Sans Unicode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C</a:t>
            </a:r>
            <a:r>
              <a:rPr b="0" lang="en-BZ" sz="3200" spc="-1" strike="noStrike">
                <a:solidFill>
                  <a:srgbClr val="f8f8f8"/>
                </a:solidFill>
                <a:latin typeface="Lucida Sans Unicode"/>
              </a:rPr>
              <a:t>u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SO</a:t>
            </a:r>
            <a:r>
              <a:rPr b="0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+Fe=FeSO</a:t>
            </a:r>
            <a:r>
              <a:rPr b="0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+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С щелоч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Lucida Sans Unicode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FeSO</a:t>
            </a:r>
            <a:r>
              <a:rPr b="0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+2NaOH=Na</a:t>
            </a:r>
            <a:r>
              <a:rPr b="0" lang="en-US" sz="2000" spc="-1" strike="noStrike">
                <a:solidFill>
                  <a:srgbClr val="f8f8f8"/>
                </a:solidFill>
                <a:latin typeface="Lucida Sans Unicode"/>
              </a:rPr>
              <a:t>2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SO</a:t>
            </a:r>
            <a:r>
              <a:rPr b="0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+Fe</a:t>
            </a:r>
            <a:r>
              <a:rPr b="0" lang="ru-RU" sz="3200" spc="-1" strike="noStrike">
                <a:solidFill>
                  <a:srgbClr val="f8f8f8"/>
                </a:solidFill>
                <a:latin typeface="Lucida Sans Unicode"/>
              </a:rPr>
              <a:t>(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OH</a:t>
            </a:r>
            <a:r>
              <a:rPr b="0" lang="ru-RU" sz="3200" spc="-1" strike="noStrike">
                <a:solidFill>
                  <a:srgbClr val="f8f8f8"/>
                </a:solidFill>
                <a:latin typeface="Lucida Sans Unicode"/>
              </a:rPr>
              <a:t>)</a:t>
            </a:r>
            <a:r>
              <a:rPr b="0" lang="en-US" sz="3200" spc="-1" strike="noStrike" baseline="-25000">
                <a:solidFill>
                  <a:srgbClr val="f8f8f8"/>
                </a:solidFill>
                <a:latin typeface="Lucida Sans Unicode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С другими соля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Lucida Sans Unicode"/>
              </a:rPr>
              <a:t>   </a:t>
            </a:r>
            <a:r>
              <a:rPr b="0" lang="ru-RU" sz="3200" spc="-1" strike="noStrike">
                <a:solidFill>
                  <a:srgbClr val="f8f8f8"/>
                </a:solidFill>
                <a:latin typeface="Lucida Sans Unicode"/>
              </a:rPr>
              <a:t>К</a:t>
            </a:r>
            <a:r>
              <a:rPr b="0" lang="ru-RU" sz="2000" spc="-1" strike="noStrike">
                <a:solidFill>
                  <a:srgbClr val="f8f8f8"/>
                </a:solidFill>
                <a:latin typeface="Lucida Sans Unicode"/>
              </a:rPr>
              <a:t>2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SO</a:t>
            </a:r>
            <a:r>
              <a:rPr b="0" lang="ru-RU" sz="2000" spc="-1" strike="noStrike">
                <a:solidFill>
                  <a:srgbClr val="f8f8f8"/>
                </a:solidFill>
                <a:latin typeface="Lucida Sans Unicode"/>
              </a:rPr>
              <a:t>4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+Ba</a:t>
            </a:r>
            <a:r>
              <a:rPr b="0" lang="ru-RU" sz="3200" spc="-1" strike="noStrike">
                <a:solidFill>
                  <a:srgbClr val="f8f8f8"/>
                </a:solidFill>
                <a:latin typeface="Lucida Sans Unicode"/>
              </a:rPr>
              <a:t>С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l</a:t>
            </a:r>
            <a:r>
              <a:rPr b="0" lang="en-US" sz="2000" spc="-1" strike="noStrike">
                <a:solidFill>
                  <a:srgbClr val="f8f8f8"/>
                </a:solidFill>
                <a:latin typeface="Lucida Sans Unicode"/>
              </a:rPr>
              <a:t>2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=</a:t>
            </a:r>
            <a:r>
              <a:rPr b="0" lang="ru-RU" sz="3200" spc="-1" strike="noStrike">
                <a:solidFill>
                  <a:srgbClr val="f8f8f8"/>
                </a:solidFill>
                <a:latin typeface="Lucida Sans Unicode"/>
              </a:rPr>
              <a:t>2КС</a:t>
            </a:r>
            <a:r>
              <a:rPr b="0" lang="en-US" sz="3200" spc="-1" strike="noStrike">
                <a:solidFill>
                  <a:srgbClr val="f8f8f8"/>
                </a:solidFill>
                <a:latin typeface="Lucida Sans Unicode"/>
              </a:rPr>
              <a:t>l+BaSO</a:t>
            </a:r>
            <a:r>
              <a:rPr b="0" lang="en-US" sz="3200" spc="-1" strike="noStrike" baseline="-25000">
                <a:solidFill>
                  <a:srgbClr val="f8f8f8"/>
                </a:solidFill>
                <a:latin typeface="Lucida Sans Unicode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1"/>
          <p:cNvSpPr/>
          <p:nvPr/>
        </p:nvSpPr>
        <p:spPr>
          <a:xfrm>
            <a:off x="4284720" y="333360"/>
            <a:ext cx="4616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Lucida Sans Unicode"/>
              </a:rPr>
              <a:t>Сульфаты  (</a:t>
            </a:r>
            <a:r>
              <a:rPr b="1" i="1" lang="en-US" sz="1800" spc="-1" strike="noStrike">
                <a:solidFill>
                  <a:srgbClr val="dddddd"/>
                </a:solidFill>
                <a:latin typeface="Lucida Sans Unicode"/>
              </a:rPr>
              <a:t>SO</a:t>
            </a:r>
            <a:r>
              <a:rPr b="1" i="1" lang="en-US" sz="1800" spc="-1" strike="noStrike" baseline="-25000">
                <a:solidFill>
                  <a:srgbClr val="dddddd"/>
                </a:solidFill>
                <a:latin typeface="Lucida Sans Unicode"/>
              </a:rPr>
              <a:t>4</a:t>
            </a:r>
            <a:r>
              <a:rPr b="1" i="1" lang="en-US" sz="1800" spc="-1" strike="noStrike">
                <a:solidFill>
                  <a:srgbClr val="dddddd"/>
                </a:solidFill>
                <a:latin typeface="Lucida Sans Unicode"/>
              </a:rPr>
              <a:t>) – </a:t>
            </a:r>
            <a:r>
              <a:rPr b="1" i="1" lang="ru-RU" sz="1800" spc="-1" strike="noStrike">
                <a:solidFill>
                  <a:srgbClr val="dddddd"/>
                </a:solidFill>
                <a:latin typeface="Lucida Sans Unicode"/>
              </a:rPr>
              <a:t> средние с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ddddd"/>
                </a:solidFill>
                <a:latin typeface="Lucida Sans Unicode"/>
              </a:rPr>
              <a:t>гидросульфаты  (Н</a:t>
            </a:r>
            <a:r>
              <a:rPr b="1" i="1" lang="en-BZ" sz="1800" spc="-1" strike="noStrike">
                <a:solidFill>
                  <a:srgbClr val="dddddd"/>
                </a:solidFill>
                <a:latin typeface="Lucida Sans Unicode"/>
              </a:rPr>
              <a:t>SO</a:t>
            </a:r>
            <a:r>
              <a:rPr b="1" i="1" lang="en-BZ" sz="1200" spc="-1" strike="noStrike">
                <a:solidFill>
                  <a:srgbClr val="dddddd"/>
                </a:solidFill>
                <a:latin typeface="Lucida Sans Unicode"/>
              </a:rPr>
              <a:t>4</a:t>
            </a:r>
            <a:r>
              <a:rPr b="1" i="1" lang="en-BZ" sz="1800" spc="-1" strike="noStrike">
                <a:solidFill>
                  <a:srgbClr val="dddddd"/>
                </a:solidFill>
                <a:latin typeface="Lucida Sans Unicode"/>
              </a:rPr>
              <a:t>)</a:t>
            </a:r>
            <a:r>
              <a:rPr b="1" i="1" lang="ru-RU" sz="1800" spc="-1" strike="noStrike">
                <a:solidFill>
                  <a:srgbClr val="dddddd"/>
                </a:solidFill>
                <a:latin typeface="Lucida Sans Unicode"/>
              </a:rPr>
              <a:t> – кислые </a:t>
            </a:r>
            <a:r>
              <a:rPr b="1" i="1" lang="ru-RU" sz="1800" spc="-1" strike="noStrike">
                <a:solidFill>
                  <a:srgbClr val="dddddd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dddddd"/>
                </a:solidFill>
                <a:latin typeface="Lucida Sans Unicode"/>
              </a:rPr>
              <a:t>со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Прямая со стрелкой 7"/>
          <p:cNvCxnSpPr>
            <a:stCxn id="220" idx="3"/>
            <a:endCxn id="224" idx="1"/>
          </p:cNvCxnSpPr>
          <p:nvPr/>
        </p:nvCxnSpPr>
        <p:spPr>
          <a:xfrm flipV="1">
            <a:off x="3565440" y="791640"/>
            <a:ext cx="720000" cy="334080"/>
          </a:xfrm>
          <a:prstGeom prst="straightConnector1">
            <a:avLst/>
          </a:prstGeom>
          <a:ln w="12600">
            <a:solidFill>
              <a:srgbClr val="bdbdbd"/>
            </a:solidFill>
            <a:miter/>
            <a:tailEnd len="med" type="arrow" w="med"/>
          </a:ln>
        </p:spPr>
      </p:cxnSp>
      <p:cxnSp>
        <p:nvCxnSpPr>
          <p:cNvPr id="226" name="Прямая со стрелкой 9"/>
          <p:cNvCxnSpPr>
            <a:endCxn id="221" idx="1"/>
          </p:cNvCxnSpPr>
          <p:nvPr/>
        </p:nvCxnSpPr>
        <p:spPr>
          <a:xfrm>
            <a:off x="3634920" y="1557000"/>
            <a:ext cx="723240" cy="143640"/>
          </a:xfrm>
          <a:prstGeom prst="straightConnector1">
            <a:avLst/>
          </a:prstGeom>
          <a:ln w="12600">
            <a:solidFill>
              <a:srgbClr val="bdbdbd"/>
            </a:solidFill>
            <a:miter/>
            <a:tailEnd len="med" type="arrow" w="med"/>
          </a:ln>
        </p:spPr>
      </p:cxnSp>
      <p:sp>
        <p:nvSpPr>
          <p:cNvPr id="227" name="Управляющая кнопка: домой 11">
            <a:hlinkClick r:id="rId1" action="ppaction://hlinksldjump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10807" y="3837"/>
                </a:moveTo>
                <a:lnTo>
                  <a:pt x="13383" y="6448"/>
                </a:ln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6" y="10800"/>
                </a:lnTo>
                <a:lnTo>
                  <a:pt x="16116" y="17989"/>
                </a:lnTo>
                <a:lnTo>
                  <a:pt x="5497" y="17989"/>
                </a:lnTo>
                <a:lnTo>
                  <a:pt x="5497" y="10800"/>
                </a:lnTo>
                <a:lnTo>
                  <a:pt x="3844" y="10800"/>
                </a:lnTo>
                <a:close/>
              </a:path>
              <a:path fill="darkenLess" w="21613" h="21600">
                <a:moveTo>
                  <a:pt x="13383" y="6448"/>
                </a:moveTo>
                <a:lnTo>
                  <a:pt x="13383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3" h="21600">
                <a:moveTo>
                  <a:pt x="9884" y="14299"/>
                </a:moveTo>
                <a:lnTo>
                  <a:pt x="11729" y="14299"/>
                </a:lnTo>
                <a:lnTo>
                  <a:pt x="11729" y="17989"/>
                </a:lnTo>
                <a:lnTo>
                  <a:pt x="16116" y="17989"/>
                </a:lnTo>
                <a:lnTo>
                  <a:pt x="16116" y="10800"/>
                </a:lnTo>
                <a:lnTo>
                  <a:pt x="5497" y="10800"/>
                </a:lnTo>
                <a:lnTo>
                  <a:pt x="5497" y="17989"/>
                </a:lnTo>
                <a:lnTo>
                  <a:pt x="9884" y="17989"/>
                </a:lnTo>
                <a:close/>
              </a:path>
            </a:pathLst>
          </a:custGeom>
          <a:solidFill>
            <a:srgbClr val="eaeaea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Прямая со стрелкой 12"/>
          <p:cNvCxnSpPr/>
          <p:nvPr/>
        </p:nvCxnSpPr>
        <p:spPr>
          <a:xfrm>
            <a:off x="6372000" y="5876640"/>
            <a:ext cx="1080" cy="432360"/>
          </a:xfrm>
          <a:prstGeom prst="straightConnector1">
            <a:avLst/>
          </a:prstGeom>
          <a:ln w="12600">
            <a:solidFill>
              <a:srgbClr val="bdbd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5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500"/>
                            </p:stCondLst>
                            <p:childTnLst>
                              <p:par>
                                <p:cTn id="3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500"/>
                            </p:stCondLst>
                            <p:childTnLst>
                              <p:par>
                                <p:cTn id="3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4:46:31Z</dcterms:created>
  <dc:creator>555</dc:creator>
  <dc:description/>
  <dc:language>en-US</dc:language>
  <cp:lastModifiedBy>Даша))</cp:lastModifiedBy>
  <dcterms:modified xsi:type="dcterms:W3CDTF">2011-12-08T11:52:25Z</dcterms:modified>
  <cp:revision>84</cp:revision>
  <dc:subject/>
  <dc:title>Слайд 1</dc:title>
</cp:coreProperties>
</file>